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1892-7699-4578-8158-337F1567D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504B-FFC6-4352-BF0E-951FACD00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eight dominates interpretation of volume.  At this stage children almost always pick container c even after watching the contents being pou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annot see the world through someone else’s e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alization that people have minds – and thus intentions, i.e. Red Ridding Hood and the Big Bad Wolf “The better to eat you wi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us they do begin to seek reasons for 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8643-C820-4947-B055-8B1275053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5DA0-4125-4AD8-B4AB-4CAD5C776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5DC1-4A04-4356-AE7B-26AAB916F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A62C-C4A9-41B6-8F89-1F2394B94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1175-B7A6-4DEE-AADA-D072351CB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.A. begins as soon as infants become mobile (8 month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ema develops for familiar f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7079-796C-4662-A141-66FAD5F40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-child bond is survival impulse: keeps children close to care-g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be based on notion of nourishment, but Harlow’s mothers showed that safe, secure feelings were more important for bab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rst three years are critical to brain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mprinting – ducks follow the first thing they see Konrad Lor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4C4C-5B84-481F-A9F8-B24B7239B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BA82-2C52-4394-B32F-DDD3D9E74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itarian parents set rules and expect strict obedience. Permissive parents submit to child’s desires, make few demands, and use little punish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26C6-6C24-4282-8EFB-65F517FDE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anding and responsive, exert control and explain  the reasons but  encourage discussions for modification/exceptions to the rules when child gets ol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4345-854A-4143-994B-1758E6C1E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Only mother’s voice should be heard. 2. Hard/soft, light/dark, Helps with neural articulation 3. Visual development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14BD-7A6B-4EE3-A64E-27CB4BAEC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nticipation  6. Can remember actions they have observed for 30 seconds for up to one week. By 12 months infants learn one or two new behaviors daily just be observing.  7 Variety of environmental experiences does show that poverty stricken children may not be as stimulated at this stage as wealthier inf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195B-FFB8-4B59-9818-4ACF1DCC9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al networks are expa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uring not imitating, i.e. blind babies will roll, situp, crawl, walk,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% of babies walk by the time they’re 11 months, 90% by 18 months. Culturally based: i.e. Ugandan children walk by age 10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brain responsible is the cerebellum; thus nature is a big part of this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y would toilet training not work at this age?   Neural pathways controlling bowel and bladder are not developed, y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21D0-7421-4E5A-A3CE-C0247E1B4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e cannot be taught something we are not cognitively ready for.  Barrel of monkies metaph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2D1F-B6D8-49B2-A8E1-7F44A2860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C373-10C1-4B8D-B012-20F144A12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aturing minds build concepts or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lowing for alteration and adjustment to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ognition is knowing, thinking, and rememb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A036-09D3-495F-BA28-A76EA5478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4B21-262E-493F-98AE-45AB525EC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me early memory capability (re: soothers = looked longer at the smooth nipple soother than the rough nippl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aby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DF99-4E41-456B-A214-5B8307096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bies within this experiment were startled by the number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01A6-A3CE-4384-9B2D-F7E97B1EA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4973-4F77-42D2-96FA-805129D1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B618-8D6F-4780-8D35-B9418FC8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853-730C-4DE4-8D35-A50F7EAB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3F4-848D-41CF-80D1-1686A441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4AB-9B50-4820-A326-36157ADF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307-B612-4856-B62F-4EC266DC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971-3E90-43C7-9D2A-4618377F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0BB1-CF26-41E5-BDC9-18250F09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DBA2-A43C-43E6-B17F-12E204FA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83A-9C3B-4A35-8B6A-C8FD1313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D45-8344-4F8B-A68A-FFA0F8B6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42C-818E-454D-A63A-008C28AA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B845-672A-4538-A914-65D133F36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e 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ancy and Child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operational S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rvation of volume is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o-cen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 of mi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Content Placeholder 7" descr="0054.jpg"/>
          <p:cNvPicPr/>
          <p:nvPr/>
        </p:nvPicPr>
        <p:blipFill>
          <a:blip r:embed="rId1"/>
          <a:stretch/>
        </p:blipFill>
        <p:spPr>
          <a:xfrm>
            <a:off x="4645080" y="2735280"/>
            <a:ext cx="4041720" cy="2830320"/>
          </a:xfrm>
          <a:prstGeom prst="rect">
            <a:avLst/>
          </a:prstGeom>
          <a:ln w="0">
            <a:noFill/>
          </a:ln>
        </p:spPr>
      </p:pic>
      <p:sp>
        <p:nvSpPr>
          <p:cNvPr id="7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rete Operational S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rvation is in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Content Placeholder 7" descr="152196595_444b9b13d7.jpg"/>
          <p:cNvPicPr/>
          <p:nvPr/>
        </p:nvPicPr>
        <p:blipFill>
          <a:blip r:embed="rId1"/>
          <a:stretch/>
        </p:blipFill>
        <p:spPr>
          <a:xfrm>
            <a:off x="4645080" y="2274840"/>
            <a:ext cx="4041720" cy="3751200"/>
          </a:xfrm>
          <a:prstGeom prst="rect">
            <a:avLst/>
          </a:prstGeom>
          <a:ln w="0">
            <a:noFill/>
          </a:ln>
        </p:spPr>
      </p:pic>
      <p:sp>
        <p:nvSpPr>
          <p:cNvPr id="85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 Opera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hat if questions can be  add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ing is develo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tent Placeholder 7" descr="152196745_5c1282c49f.jpg"/>
          <p:cNvPicPr/>
          <p:nvPr/>
        </p:nvPicPr>
        <p:blipFill>
          <a:blip r:embed="rId1"/>
          <a:stretch/>
        </p:blipFill>
        <p:spPr>
          <a:xfrm>
            <a:off x="4645080" y="2585880"/>
            <a:ext cx="4041720" cy="3129120"/>
          </a:xfrm>
          <a:prstGeom prst="rect">
            <a:avLst/>
          </a:prstGeom>
          <a:ln w="0">
            <a:noFill/>
          </a:ln>
        </p:spPr>
      </p:pic>
      <p:sp>
        <p:nvSpPr>
          <p:cNvPr id="9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ng on Piage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al stages are uni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cing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lessons for parents and teac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grow continuously, not in st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ren begin a subsequent stage earlier than Piaget thou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31800" y="890640"/>
            <a:ext cx="78739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55480" y="1982880"/>
            <a:ext cx="8026560" cy="2895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68580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mpossible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anger anxie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in, mind, social-emotional behavior develop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Content Placeholder 5" descr="Image1-3-700127.jpg"/>
          <p:cNvPicPr/>
          <p:nvPr/>
        </p:nvPicPr>
        <p:blipFill>
          <a:blip r:embed="rId1"/>
          <a:stretch/>
        </p:blipFill>
        <p:spPr>
          <a:xfrm>
            <a:off x="5072040" y="1981080"/>
            <a:ext cx="2962440" cy="411480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low’s M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tical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id attachment = impri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ive Par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xed and attentive moth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Content Placeholder 18" descr="HarryHarlow1.jpg"/>
          <p:cNvPicPr/>
          <p:nvPr/>
        </p:nvPicPr>
        <p:blipFill>
          <a:blip r:embed="rId1"/>
          <a:stretch/>
        </p:blipFill>
        <p:spPr>
          <a:xfrm>
            <a:off x="5187960" y="2743200"/>
            <a:ext cx="3533760" cy="3352680"/>
          </a:xfrm>
          <a:prstGeom prst="rect">
            <a:avLst/>
          </a:prstGeom>
          <a:ln w="0">
            <a:noFill/>
          </a:ln>
        </p:spPr>
      </p:pic>
      <p:sp>
        <p:nvSpPr>
          <p:cNvPr id="10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6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8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0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2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4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6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8" dur="2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0" dur="2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55480" y="789120"/>
            <a:ext cx="8026560" cy="5283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68580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ants’ Distress Over Separation from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Attac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 Attachment Predicts Social Compe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rik Erickson: basic 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ivation of Attac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cy of Harlow’s mon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uration and Infan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t remember: neural connections are f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and software are getting pu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o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uration of nervou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-Rearing Practic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horitarian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Content Placeholder 9" descr="stalin_color555.jpg"/>
          <p:cNvPicPr/>
          <p:nvPr/>
        </p:nvPicPr>
        <p:blipFill>
          <a:blip r:embed="rId1"/>
          <a:stretch/>
        </p:blipFill>
        <p:spPr>
          <a:xfrm>
            <a:off x="676440" y="2174760"/>
            <a:ext cx="3601800" cy="3951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missive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Content Placeholder 10" descr="britney-spears.jpg"/>
          <p:cNvPicPr/>
          <p:nvPr/>
        </p:nvPicPr>
        <p:blipFill>
          <a:blip r:embed="rId2"/>
          <a:stretch/>
        </p:blipFill>
        <p:spPr>
          <a:xfrm>
            <a:off x="4645080" y="2533680"/>
            <a:ext cx="4041720" cy="3233880"/>
          </a:xfrm>
          <a:prstGeom prst="rect">
            <a:avLst/>
          </a:prstGeom>
          <a:ln w="0">
            <a:noFill/>
          </a:ln>
        </p:spPr>
      </p:pic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oritative Par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Content Placeholder 9" descr="fatherpix.jpg"/>
          <p:cNvPicPr/>
          <p:nvPr/>
        </p:nvPicPr>
        <p:blipFill>
          <a:blip r:embed="rId1"/>
          <a:stretch/>
        </p:blipFill>
        <p:spPr>
          <a:xfrm>
            <a:off x="914400" y="1608120"/>
            <a:ext cx="6705720" cy="4456080"/>
          </a:xfrm>
          <a:prstGeom prst="rect">
            <a:avLst/>
          </a:prstGeom>
          <a:ln w="0">
            <a:noFill/>
          </a:ln>
        </p:spPr>
      </p:pic>
      <p:sp>
        <p:nvSpPr>
          <p:cNvPr id="12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Content Placeholder 4" descr="0103.jpg"/>
          <p:cNvPicPr/>
          <p:nvPr/>
        </p:nvPicPr>
        <p:blipFill>
          <a:blip r:embed="rId1"/>
          <a:stretch/>
        </p:blipFill>
        <p:spPr>
          <a:xfrm>
            <a:off x="1633680" y="1981080"/>
            <a:ext cx="587664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555480" y="789120"/>
            <a:ext cx="8026560" cy="5283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5335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tative Parenting and Social Compe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your baby needs to be smar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h 1: Eliminate background distr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hs 1-3: Emphasize contra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hs 3-5: Use pictures of baby’s real worl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hs 6-7: Emphasize cause/effect, locations of things, and fun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hs7-8: Emphasize sound to signal an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hs 9-12: Explore motor and sensory skills and how they comb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hs 13-18: Explore objects in the environment.  Diversify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961920" y="712800"/>
            <a:ext cx="7213680" cy="5435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rebral Cortex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gnitive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e learn &amp; What we are capable to 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gnitive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aget’s Theory and Current 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orimotor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operational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rete Operational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Operational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Obser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mmod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gn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68580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ring Experience into Mental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sori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 of sight = out of mind (no object permanenc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y 8 months this starts to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in Modules, Modul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55480" y="1754280"/>
            <a:ext cx="8026560" cy="33526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68580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by Mathema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0:18:19Z</dcterms:created>
  <dc:creator>bfw</dc:creator>
  <dc:description/>
  <dc:language>en-US</dc:language>
  <cp:lastModifiedBy>MacAdmin Kis</cp:lastModifiedBy>
  <cp:lastPrinted>2008-09-04T03:44:33Z</cp:lastPrinted>
  <dcterms:modified xsi:type="dcterms:W3CDTF">2008-09-09T05:29:09Z</dcterms:modified>
  <cp:revision>26</cp:revision>
  <dc:subject/>
  <dc:title>Module 8 Infancy and Childhood</dc:title>
</cp:coreProperties>
</file>